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6799320" cy="9928080"/>
          </a:xfrm>
          <a:custGeom>
            <a:avLst/>
            <a:gdLst>
              <a:gd name="textAreaLeft" fmla="*/ 360 w 6799320"/>
              <a:gd name="textAreaRight" fmla="*/ 6798960 w 67993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39">
                <a:moveTo>
                  <a:pt x="4" y="0"/>
                </a:moveTo>
                <a:arcTo wR="4" hR="4" stAng="16200000" swAng="-5400000"/>
                <a:lnTo>
                  <a:pt x="0" y="31535"/>
                </a:lnTo>
                <a:arcTo wR="4" hR="4" stAng="10800000" swAng="-5400000"/>
                <a:lnTo>
                  <a:pt x="21596" y="315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20520" y="753840"/>
            <a:ext cx="4935240" cy="36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0760" y="4714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2428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dt" idx="16"/>
          </p:nvPr>
        </p:nvSpPr>
        <p:spPr>
          <a:xfrm>
            <a:off x="3847680" y="-360"/>
            <a:ext cx="292428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7"/>
          </p:nvPr>
        </p:nvSpPr>
        <p:spPr>
          <a:xfrm>
            <a:off x="-360" y="9430920"/>
            <a:ext cx="292428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18"/>
          </p:nvPr>
        </p:nvSpPr>
        <p:spPr>
          <a:xfrm>
            <a:off x="3847680" y="9430920"/>
            <a:ext cx="292428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74FA8-D77D-4EB4-90B0-25531BB1A7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200240" y="754200"/>
            <a:ext cx="4398840" cy="3722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1120" y="4714920"/>
            <a:ext cx="54370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200240" y="754200"/>
            <a:ext cx="4398840" cy="3722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1120" y="4714920"/>
            <a:ext cx="54370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200240" y="754200"/>
            <a:ext cx="4398840" cy="3722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1120" y="4714920"/>
            <a:ext cx="54370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200240" y="754200"/>
            <a:ext cx="4398840" cy="3722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1120" y="4714920"/>
            <a:ext cx="54370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200240" y="754200"/>
            <a:ext cx="4398840" cy="3722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1120" y="4714920"/>
            <a:ext cx="54370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200240" y="754200"/>
            <a:ext cx="4398840" cy="3722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1120" y="4714920"/>
            <a:ext cx="54370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200240" y="754200"/>
            <a:ext cx="4398840" cy="3722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1120" y="4714920"/>
            <a:ext cx="54370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200240" y="754200"/>
            <a:ext cx="4398840" cy="3722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1120" y="4714920"/>
            <a:ext cx="54370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200240" y="754200"/>
            <a:ext cx="4398840" cy="3722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1120" y="4714920"/>
            <a:ext cx="54370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200240" y="754200"/>
            <a:ext cx="4398840" cy="3722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1120" y="4714920"/>
            <a:ext cx="54370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200240" y="754200"/>
            <a:ext cx="4398840" cy="3722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1120" y="4714920"/>
            <a:ext cx="54370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E9FB-B804-47F6-92CE-C9113B77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280" y="418464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097B-B4C4-4C0C-AA83-3CDC3019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3756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DCE9-CEAE-4C66-A5A7-E3BA0A8B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6148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1932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6148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1932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46C5-7514-421D-A819-2E726248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0794-FD78-4B7C-874C-D7FBA74D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43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423D-1A93-480A-9A39-4938E580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43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F3A0-B305-4DA2-9ED9-3FEA3815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C2BF-7C62-4EF8-A770-6D88F5E0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715B-F481-4E7E-BCE9-D226E37B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4392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CAE3-5B81-4BF6-8CBE-33AA76E2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BD08-6C54-4826-B041-91B323BE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43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C30A-BED0-4252-A489-BEA896CE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3756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B3FD-343C-4A3E-9212-307C2E58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028C-0C76-485D-BA58-445940F7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418464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22C5-C2A8-442D-8B77-51065DFA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3756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AAB0-3342-4383-A6C0-4F1BE2BD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6148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1932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6148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1932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159E-48C1-4959-8A3F-5D60747A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C9E93-008B-4E4E-978E-47D2A866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43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F8C33-1DC3-43AE-BB2E-7B2B786C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43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8D310-46F6-462C-822C-1BDC973B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C19CA-5B19-4CB4-A334-ECF6A721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838A0-2FB5-415D-A126-D872DBDD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43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2DF9-29A0-41AE-8C2F-1C2225DC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4392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1A16D-ED48-4600-9906-705395BE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8B8F2-01BF-4F06-8548-DF6A25AB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3756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FB84B-EC6D-4591-8D5F-ED153FAB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398E8-B2E8-4307-ABCF-E1C7E4EA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418464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648B2-4D5E-4978-A98C-8027055F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3756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CF5AA-503C-492A-BE95-66B923BD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6148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61932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6148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61932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F4F4F-936F-409D-B879-09C1D2B7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8652A-BDD7-474F-B8FA-789C38FD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43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0BF35-5CF1-4EF5-BBE0-72B7B337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43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851AD-6EDB-4B1F-A804-91E268AB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A969-9D51-4EC1-BF96-50E4EB0A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A28D3-B1D3-4DC8-BC4A-CC078788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DF850-9F01-4DB7-BF84-8F18A5E4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4392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32830-7780-41AB-A5E5-DE4D574B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FCF40-F297-4A71-9077-FA0FD583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3756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5CC44-5B1A-47BD-BED2-6BEE81F7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0CD0C-DA48-4257-869B-781CFA5C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418464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F6A34-BDFB-4811-97BF-CE4E4CFF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3756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3DA2B-B3F6-4D34-800B-159C3F50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6148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1932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6148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61932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0ACC5-5687-468B-BB02-F6D52778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17CD6-B35B-4A64-8E15-934CA8F9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7CE9-F06D-4893-B5C0-0513598A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43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798F3-ECB2-4467-9E8E-67214A06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43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683D0-6B6A-4286-AF3D-95458246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6111C-569C-4721-9124-A7225EAA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86D7D-A5B9-4D66-AEA9-DA24E59F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4392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2A064-F393-4823-B071-8F74EFAA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1D90C-840A-4DD6-A5E0-DD5A2F0E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13756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099B9-84ED-4593-BEA4-B95130ED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F177E-BE26-41F0-9AA4-05C20E86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3280" y="418464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D3C70-8874-45D6-B618-F78ED147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13756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9C47E-6C6A-4C02-B1B8-441C1C60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4392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507A-2EE0-4AFC-AB0F-B1A93E78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6148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61932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0328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56148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61932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7A9FA-3C21-4B4F-9F92-7BF7D90E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C6F2-FD03-41FA-9F76-77289E38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3756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B9A4-8AB0-4D8C-A1C2-B804A094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9386-51EE-4D5B-9DB8-7288113C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43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2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687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2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FE939-A4FE-4EFF-B74F-5601DC5C5C4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0080720" cy="91440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160640" y="476280"/>
            <a:ext cx="4959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4068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4068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176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654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080"/>
            <a:ext cx="23176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E21BC-CB58-4894-A5B8-1E79107F70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4068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4068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03280" y="6886080"/>
            <a:ext cx="23176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447720" y="6886080"/>
            <a:ext cx="31654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080"/>
            <a:ext cx="23176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17AD4-81C6-485D-A35D-341116A00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4068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4068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03280" y="6886080"/>
            <a:ext cx="23176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447720" y="6886080"/>
            <a:ext cx="31654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226280" y="6886080"/>
            <a:ext cx="23176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FEE5C-1458-4040-82D8-D4D10B3E20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31C58-72A6-4E42-8300-479A9A3B9F87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davis@ic3.ca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2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-1403280" y="2038320"/>
            <a:ext cx="108363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044800" indent="-206640"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20448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680400"/>
                <a:tab algn="l" pos="10129680"/>
                <a:tab algn="l" pos="10578960"/>
                <a:tab algn="l" pos="1102824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elanie Davis (IC3) &amp; Jean-Pierre Ceron (Meteo F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44800" indent="-206640"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20448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680400"/>
                <a:tab algn="l" pos="10129680"/>
                <a:tab algn="l" pos="10578960"/>
                <a:tab algn="l" pos="11028240"/>
              </a:tabLst>
            </a:pPr>
            <a:r>
              <a:rPr b="0" lang="es-ES" sz="2400" spc="-1" strike="noStrike" u="sng">
                <a:solidFill>
                  <a:srgbClr val="ccccff"/>
                </a:solidFill>
                <a:uFillTx/>
                <a:latin typeface="Arial"/>
                <a:ea typeface="DejaVu Sans"/>
                <a:hlinkClick r:id="rId1"/>
              </a:rPr>
              <a:t>mdavis@ic3.cat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DejaVu Sans"/>
              </a:rPr>
              <a:t>, jean-pierre.ceron@meteo.f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44800" indent="-206640"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20448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680400"/>
                <a:tab algn="l" pos="10129680"/>
                <a:tab algn="l" pos="10578960"/>
                <a:tab algn="l" pos="11028240"/>
              </a:tabLst>
            </a:pPr>
            <a:r>
              <a:rPr b="1" lang="es-ES" sz="4100" spc="-1" strike="noStrike">
                <a:solidFill>
                  <a:srgbClr val="000000"/>
                </a:solidFill>
                <a:latin typeface="Arial"/>
                <a:ea typeface="DejaVu Sans"/>
              </a:rPr>
              <a:t>EUPORIAS WP41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4" marL="2044800" indent="-206640"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20448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680400"/>
                <a:tab algn="l" pos="10129680"/>
                <a:tab algn="l" pos="10578960"/>
                <a:tab algn="l" pos="11028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Climate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DejaVu Sans"/>
              </a:rPr>
              <a:t>Information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4800" indent="-206640"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20448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680400"/>
                <a:tab algn="l" pos="10129680"/>
                <a:tab algn="l" pos="10578960"/>
                <a:tab algn="l" pos="11028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4800" indent="-206640"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20448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680400"/>
                <a:tab algn="l" pos="10129680"/>
                <a:tab algn="l" pos="10578960"/>
                <a:tab algn="l" pos="11028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DejaVu Sans"/>
              </a:rPr>
              <a:t>Starts: M25 (November 20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4800" indent="-206640"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20448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680400"/>
                <a:tab algn="l" pos="10129680"/>
                <a:tab algn="l" pos="10578960"/>
                <a:tab algn="l" pos="11028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DejaVu Sans"/>
              </a:rPr>
              <a:t>Ends: M43 (May 20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7596360" y="108000"/>
            <a:ext cx="2352600" cy="701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336760" y="7097760"/>
            <a:ext cx="52228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PORIAS General Assembly, Toulouse, 21</a:t>
            </a:r>
            <a:r>
              <a:rPr b="0" lang="en-GB" sz="15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October 20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664000" y="0"/>
            <a:ext cx="74149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-117360" y="1644480"/>
            <a:ext cx="25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57200" y="1314360"/>
            <a:ext cx="4751280" cy="28926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5327640" y="1008000"/>
            <a:ext cx="4608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Wind Resource Consultancy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easonal Climate Variabilit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ing probability forecast of the most likely wind power tercile (above normal, normal, below normal, 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068720" y="5530680"/>
            <a:ext cx="4824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Fabian Lienert, Climate Forecasting Unit, IC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7596360" y="108000"/>
            <a:ext cx="2352600" cy="7016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1569960" y="2722680"/>
            <a:ext cx="8369280" cy="46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664000" y="0"/>
            <a:ext cx="74149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117360" y="1644480"/>
            <a:ext cx="25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-117360" y="1644480"/>
            <a:ext cx="25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874800"/>
            <a:ext cx="5907240" cy="51022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4392720" y="2584440"/>
            <a:ext cx="6016680" cy="50468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55440" y="5994360"/>
            <a:ext cx="49672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DejaVu Sans"/>
              </a:rPr>
              <a:t>Halcrow Water, 2013.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DejaVu Sans"/>
              </a:rPr>
              <a:t>UK Environment Ag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 of Probabilistic Forecasting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DejaVu Sans"/>
              </a:rPr>
              <a:t>in Flood Incident Management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7596360" y="108000"/>
            <a:ext cx="2352600" cy="7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596360" y="108000"/>
            <a:ext cx="2352600" cy="701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42920" y="1065240"/>
            <a:ext cx="10296360" cy="78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input from WP12 stakeholder interviews and RT2 climate forecasts and case stu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4.1.1 (All): 5%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hoose 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making chai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and its relevant economic model(s) and knowledge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Understand th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isk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climate and non climate) of the decision processes identif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4.1.2 (All): 5%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ssess impacts and risk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anagement strategi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throughout the DMPs over S2D timesc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EADING T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4.1.3 (All) : 20% tim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- Define 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ethodology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to evaluate the DMPs that are affected by 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4.1.4 (All): 40% tim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- Evaluate the relativ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weight of climate informatio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in the relevant D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EADING T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4.1.5 (UNIVLEEDS, IC3, MF, WHO Euro, and WFP): 15%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efine standardised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tocol(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) for evaluating D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4.1.6 (DWD, MF, WHO Euro, and WFP): 15%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WMO Regional Climate Centre-network informatio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nd its relevance to the DM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input from WP 1.1, Task 1.1.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47520" y="1633680"/>
            <a:ext cx="10294920" cy="703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Value of Climate Services – quantitative: cost/benefi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 of s2d probabilistic forecasts on the decision making process – quantit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2916360"/>
            <a:ext cx="10294920" cy="703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le of Climate Services – qualitative: the human dim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ffect of Climate Services on stakeholders decisions – qualit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319640"/>
            <a:ext cx="10294920" cy="703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define Climat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the provided information on the decision making proce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5688000"/>
            <a:ext cx="10294920" cy="715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owards New Business Opportunities (WP4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wnstream, Operational Decision Support Systems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6483240"/>
            <a:ext cx="92520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596360" y="108000"/>
            <a:ext cx="2352600" cy="7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622680" y="2503440"/>
            <a:ext cx="6421320" cy="40561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0" y="1405080"/>
            <a:ext cx="10294920" cy="703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Value of Climate Services – quantitative cost/benefi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 of s2d probabilistic forecasts on the decision making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4360" y="2735280"/>
            <a:ext cx="4103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tract value of low skill fore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CMWF's Weather Rou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ntuitive diagnostics for communicating the skill of probabilistic forecast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ffective interest rate of forecast v clima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596360" y="108000"/>
            <a:ext cx="2352600" cy="7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-47520" y="1633680"/>
            <a:ext cx="10294920" cy="703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Value of Climate Services – quantitative cost/benefi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 of s2d probabilistic forecasts on the decision making process – quantit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-144360" y="1440000"/>
            <a:ext cx="10512360" cy="1295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2916360"/>
            <a:ext cx="10294920" cy="703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le of Climate Services – qualitative: the human dim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ffect of Climate Services on stakeholders dec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68360" y="3816360"/>
            <a:ext cx="79200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Risk of not acting: if high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would you act regardless of the foreca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Use of a probabilistic forecast/interpretation of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Test using a “Placebo”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7596360" y="108000"/>
            <a:ext cx="2352600" cy="7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-47520" y="1633680"/>
            <a:ext cx="10294920" cy="703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Value of Climate Services – quantitative cost/benefi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 of s2d probabilistic forecasts on the decision making process – quantit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-144360" y="1476360"/>
            <a:ext cx="10512360" cy="1295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916360"/>
            <a:ext cx="10294920" cy="703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le of Climate Services – qualitative: the human dim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ffect of Climate Services on stakeholders decisions – qualit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-144360" y="2665440"/>
            <a:ext cx="10512360" cy="1295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248000"/>
            <a:ext cx="10294920" cy="703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define Climat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the provided information on the decision making proce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52360" y="5078520"/>
            <a:ext cx="92520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Data needs and its communications (risk alongside uncertain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Visualisation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isation? Strategy/protocol for providing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596360" y="108000"/>
            <a:ext cx="2352600" cy="7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-47520" y="1633680"/>
            <a:ext cx="10294920" cy="703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Value of Climate Services – quantitative: cost/benefi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 of s2d probabilistic forecasts on the decision making process – quantit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-144360" y="1440000"/>
            <a:ext cx="10512360" cy="1295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916360"/>
            <a:ext cx="10294920" cy="703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le of Climate Services – qualitative: the human dim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ffect of Climate Services on stakeholders decisions – qualit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-144360" y="2736720"/>
            <a:ext cx="10512360" cy="1295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248000"/>
            <a:ext cx="10294920" cy="703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define Climat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the provided information on the decision making proce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5688000"/>
            <a:ext cx="10294920" cy="715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owards New Business Opportunities (WP4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wnstream, Operational Decision Support Systems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-142920" y="4176720"/>
            <a:ext cx="10512360" cy="1295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6483240"/>
            <a:ext cx="92520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What would this look like? How would it work? (link to protot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596360" y="108000"/>
            <a:ext cx="2352600" cy="7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6840360"/>
            <a:ext cx="10080720" cy="72108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5724360"/>
            <a:ext cx="10080720" cy="93672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851280"/>
            <a:ext cx="10080720" cy="93672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692360"/>
            <a:ext cx="10080720" cy="64764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7596360" y="108000"/>
            <a:ext cx="2352600" cy="7016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6200" y="1138320"/>
            <a:ext cx="10296720" cy="85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eliverables and Mile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4.1.1 and D4.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port on the evaluation of th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qualitative and quantitative valu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of D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4.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of (climate and non climate) management scenarios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4.1.2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ssessment of the qualitative and quantitative value of the D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4.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port on th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of and risk related to climate forecasts developed in RT2 on DMP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for case studies and DSS’s selected withi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se Stud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4.1.3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ssessment of the impact of and risk related to climate information on the DMPs and DS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4.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of the climat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products of the WMO RA VI RCC-network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useful to the decision 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4.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ublication of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aper(s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on the evaluation, skill and values of the decision making chain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664000" y="0"/>
            <a:ext cx="74149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24000" y="1219320"/>
            <a:ext cx="4300560" cy="24526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5862600" y="1219320"/>
            <a:ext cx="4179960" cy="24526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6443640" y="3524400"/>
            <a:ext cx="3311640" cy="24159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324000" y="3741840"/>
            <a:ext cx="4381200" cy="15145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7596360" y="108000"/>
            <a:ext cx="2352600" cy="7016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6"/>
          <a:stretch/>
        </p:blipFill>
        <p:spPr>
          <a:xfrm>
            <a:off x="3129120" y="5251320"/>
            <a:ext cx="3387600" cy="2308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ice</dc:creator>
  <dc:description/>
  <dc:language>en-US</dc:language>
  <cp:lastModifiedBy>Melanie Davis</cp:lastModifiedBy>
  <dcterms:modified xsi:type="dcterms:W3CDTF">2014-10-20T18:38:02Z</dcterms:modified>
  <cp:revision>63</cp:revision>
  <dc:subject/>
  <dc:title>Diapositiva 1</dc:title>
</cp:coreProperties>
</file>